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DC9-8B3E-4688-A916-228F85E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C08-133B-4C5C-AE7D-A05A8CC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4BC-2C3B-4FEB-9ECD-320583A1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2C5-EFB1-4D14-9467-9236FF0B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E669-FC14-4E64-A4FF-20446502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61BA-F1DB-49AD-8ACB-0790B601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AC1B-73D9-46CE-A4F1-9F125C10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FC27-2883-4AB7-9163-1E9553DF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7944-035A-454F-B7C2-C141A673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9042-0E85-4365-871A-F968CC72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3EFD-2CF3-48DA-B699-587BD0C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D46-26AA-4590-A503-6CE2746A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F07A-4689-457D-8F76-A040E3C0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1DB8-E56A-4C8E-9835-E1348CE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7BF9-3160-4D21-9343-220C830E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3EDD-4905-4A41-B970-A4ACE7A6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4830-E6B5-4D1C-8A5A-36B17264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496E-BE57-43EA-9A86-4E06DB96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465A-F4FF-4362-9888-1ABFEB9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EC64-C388-42AA-B1C0-CC2ED35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B04E-78C3-4BC2-8012-1B7873F5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6223-179B-45B7-B9A7-25FCF82D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AF0-9E59-41B3-BED0-A6AD62FB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D7BF-EFD5-4228-ACAF-F9487E3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0A89-AFBE-471E-A5E4-4F0915B3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B1D6-AE3C-4C63-9AD2-55E759F3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F7E8-76E1-4722-AAFD-5A52CD4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336F-2CDB-4F7F-A9A0-47F4A3F8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045E-F345-4A75-BE0A-71DD1167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976F-3C7D-4761-8DA0-ABDEBF4E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77EC-FAFF-43B8-B35F-B56FEFC3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8ADC-BE4F-4144-937D-3053A9F7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32A6-12A2-4CA5-AC52-28237EFA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E23-05B8-43F5-A68D-54E6285C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1CDB-907E-49B1-A76A-D13FDFDF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B0CD-9485-4C2A-BE5D-F6407958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F993-FD74-4EFA-B1B5-A1B96077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C486-309F-4E84-938D-8FE84DE4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61AD-9B48-4F7F-8720-C12E3E9E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5C22-F3D8-4F9B-9BEA-34F7703B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F7EE-8F19-46CD-8A1A-D15B3FC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B6EC5-4D62-4398-889A-7FAF9370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19C1-92F3-436C-8DD5-01493419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A19AA-5C03-464A-B9DE-CB485E7D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67C-EDF5-4E56-A884-6C715530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6A54-6504-43EF-AEA4-D75F3FF2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7305-F0F6-47A5-9A02-C5D2CD67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6197-039F-4757-8199-991795A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C358-1447-4F24-BA81-3B84301D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8A6E-8EEE-4EBE-A007-8D9003C0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00FD-08CF-473F-B073-3F90ECAB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FEC8-A752-4B59-9C76-72A2503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008F-B538-4D93-9530-D26AA10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EE5C-E996-4EA6-A473-737896F5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023ED-C008-49DF-873E-F452EB20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490-92C2-4C8C-97AB-8BE35E2E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4872-A883-4BB2-ACE2-D0D90D21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BC1E7-3BE9-4E4E-86FE-55FBB2C2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E465-3EBA-4838-B137-A1483228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CAE7-C288-4BFA-BB45-15109314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42973-9EFE-49E6-9F72-A216046E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BB6F2-E26F-4BBD-BA3E-35CE22CA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0D157-47F2-4FF7-87DC-2F9948C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70667-B3E3-48DF-B3BE-2EA92DE0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DB36-990A-4F54-9F10-DFD73D43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06F53-DC48-4414-BB59-20A5AEC8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AC7-3B93-4881-8821-47585B1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60106-2B59-4207-B274-30CA8F29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CDA1D-8C70-4548-81D8-0CAB0EC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22CE-F63C-431D-AD28-83D80F83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0FA1-4AB6-44D8-91F9-B57E279A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FDD10-B51F-4B0A-90C5-0B429A81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0E64-5B27-4B25-877F-7450B830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1AD9-C0AA-48F1-9F14-5C414360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DEFF-3A42-4F2D-B5E1-F18A042B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F9A8-4A40-45E0-A337-5051BE40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5BAC6-981B-42F8-B28B-294C198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065-3EF6-4753-878D-0DF2794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1EC23-8491-4244-9E7E-4401BB06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6E17-D342-4DEA-8EA7-C2192CE8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5612C-5D09-4BEA-BF0E-4A8C0966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C44D-A2CE-47E9-816D-B52C1D1F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0A9C5-1CCF-45F8-9A77-98C69F44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8F9F-D365-4ACA-8E77-06CD22C2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B076A-B2F3-49A3-8CEC-65044207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2CD56-9051-4440-A1AC-12FC39D7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1A251-8DF5-4E12-9394-D7BB48A1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3D471-7E0B-4736-95CD-6775165F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A6A-F6F5-4E27-B6AA-27C62D29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DDA46-D948-40FA-8A8F-AAFD30C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07D7-6B75-4765-AFDB-8DDE46B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5D5B2-58E1-4087-8167-307E8D12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0FCC1-94D6-4720-92CE-A084762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F1F4-1458-449E-985D-E14864A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8E315-ABDF-4562-8F5E-A08DEDC6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35B2-49AB-42D5-8FB1-1C2B874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F099-BB49-4CCF-BF1B-7D61F0B1086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62800"/>
              </a:gs>
              <a:gs pos="50000">
                <a:srgbClr val="ff673b"/>
              </a:gs>
              <a:gs pos="100000">
                <a:srgbClr val="b628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eea99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7820-92A2-436D-98AE-FD46498B506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77C4-50F7-4F34-9C1F-38F9E7773E4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17F0-AD54-49A4-8217-FDB25BABB81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F173-D3FB-441F-B25F-7FC647B4498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50D-71F3-4F99-96B9-4C5E8013C29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1EDB-6628-483A-96C5-33BD8837DDE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ea99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c34000"/>
              </a:gs>
              <a:gs pos="100000">
                <a:srgbClr val="f58e77"/>
              </a:gs>
            </a:gsLst>
            <a:lin ang="16200000"/>
          </a:gradFill>
          <a:ln cap="rnd" w="3240">
            <a:solidFill>
              <a:srgbClr val="a1400b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b5a1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CC0-2298-4786-8077-01CB3BEED94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3786120" y="2500200"/>
            <a:ext cx="36720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Análisis descrip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3 CuadroTexto"/>
          <p:cNvSpPr/>
          <p:nvPr/>
        </p:nvSpPr>
        <p:spPr>
          <a:xfrm>
            <a:off x="285840" y="36432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Manuel Calvo Cerver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Sergio Pérez Trujill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2º LADE 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G:\Jayquesa\Sin título-1.jpg"/>
          <p:cNvPicPr/>
          <p:nvPr/>
        </p:nvPicPr>
        <p:blipFill>
          <a:blip r:embed="rId1"/>
          <a:stretch/>
        </p:blipFill>
        <p:spPr>
          <a:xfrm>
            <a:off x="571680" y="357120"/>
            <a:ext cx="35589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068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Misión principal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define la Política, Objetivos y Estrategias de la empresa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utoridad jerárquica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obre todos los departamentos. Define las funciones y responsabilidades de cada puesto de trabajo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Responsabilidad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controlar los departamentos de Calidad, Ventas, Administración y Almacén. Emite tarifas y ofertas, establece ruteros y audita inventario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Toma de decision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aprobar mediante firma los pedidos en los que Jayquesa S.L. asume el crédito; aprobar el acta de reunión, el Plan anual de auditorías; aprobar y cerrar las acciones correctivas derivadas de las desviaciones detectadas en las auditorías internas; marca los valores esperados de los indicadores de calidad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ntrol de su actividad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stá controlado por el Consejo de Administración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Sistema de remuner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alario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ctividades general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reunión diaria con el jefe de ventas, con el jefe de almacén y jefe de administración; revisión de saldos y movimientos en los bancos; citas con grandes cliente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labora co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l Responsable de Calidad en la elaboración, revisión y modificación  de los documentos, y le informa de las acciones bajo su responsabilidad. Coopera con los auditores para el éxito de la auditoría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dur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los malos resultados, incumplimiento de los objetivos marcados, problemas de tesorería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satisfactori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cuando se cumplen los objetivos, se obtienen beneficios, el cliente está contento con los servicios y los empleados se sienten realizados e integrados en la organización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ualific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xperiencia de 5 a 10 años en puesto similar o Licenciado en Empresariales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Misión principal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control de los vendedores y de los “merchan”, así como la definición de las estrategias de marketing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utoridad jerárquica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obre los vendedores y los “merchan”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Responsabilidad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gestión de cobros; formación que reciben las personas asignadas bajo su departamento; implantación de las acciones correctivas y preventivas designadas por la gerencia o por el Responsable de Calidad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Toma de decision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incentivos a los vendedores por las ventas; establecer los planes de publicidad y promoción, tanto a nivel global, como por productos y mercados; aprobación de los cliente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 quién obedece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Gerente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ntrol de su actividad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Gerente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Sistema de remuner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alario fijo, más incentivos por objetivo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ctividades generale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seguimiento de las ventas diarias, reunión y cobro diario a los vendedores, reunión diaria con el gerente, visita a grandes clientes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olabora co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l Responsable de Calidad en la elaboración, revisión y modificación  de los documentos, y le informa de las acciones bajo su responsabilidad. Coopera con los auditores para el éxito de la auditoría. Colabora con el departamento de Administración mediante el control de las facturas a los vendedores y la recogida de los cobro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dur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disminución de las ventas, el incumplimiento de los objetivos marcados en la estrategia de marketing, fracaso en importantes negociaciones.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Aspectos más satisfactorios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incremento de las ventas y de la cuota de mercado, cumplimiento de los objetivos, las personas bajo su cargo estén motivadas e identificada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a4430e"/>
                </a:solidFill>
                <a:latin typeface="Lucida Sans Unicode"/>
              </a:rPr>
              <a:t>Cualificación</a:t>
            </a:r>
            <a:r>
              <a:rPr b="0" lang="es-ES" sz="1300" spc="-1" strike="noStrike">
                <a:solidFill>
                  <a:srgbClr val="000000"/>
                </a:solidFill>
                <a:latin typeface="Lucida Sans Unicode"/>
              </a:rPr>
              <a:t>: experiencia demostrable en puesto similar a durante al menos 5 años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ítulo del cargo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Misión principa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utor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Responsabilidad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oma de decision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 quién obedec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ntrol de su activ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istema de remuner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ctividades general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labora con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duro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satisfactorios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ualific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ítulo del cargo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Misión principa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utor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Responsabilidad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Toma de decision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 quién obedece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ntrol de su actividad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istema de remuner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ctividades general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olabora con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duro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Aspectos más satisfactorios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Cualificació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L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estrategia organizativa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básica que sigue Jayquesa S.L. es un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estandarización exógeno-objetiva orientada a procesos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mediante la descripción de puestos y establecimiento de normas y reglamentos. Los contenidos de las tareas quedan especificados y programados, siendo la necesidad de comunicación reducida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L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toma de decisiones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es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centralizada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, siendo el gerente el que posee el mayor poder decisión, definiendo las políticas y marcando los objetiv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El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modelo organizativo 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de Jayquesa S.L. se acerca a la </a:t>
            </a:r>
            <a:r>
              <a:rPr b="0" lang="es-ES" sz="2100" spc="-1" strike="noStrike">
                <a:solidFill>
                  <a:srgbClr val="a4430e"/>
                </a:solidFill>
                <a:latin typeface="Lucida Sans Unicode"/>
              </a:rPr>
              <a:t>burocracia permisiva</a:t>
            </a: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. Posee una elevada formalización, mediante la normalización de los puestos y los procesos. Es permisiva ya que la formalización está orientada al aprendizaje de los trabajadores durante todo el proceso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3 CuadroTexto"/>
          <p:cNvSpPr/>
          <p:nvPr/>
        </p:nvSpPr>
        <p:spPr>
          <a:xfrm>
            <a:off x="5072040" y="1785960"/>
            <a:ext cx="221472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Responsable de Calida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4 CuadroTexto"/>
          <p:cNvSpPr/>
          <p:nvPr/>
        </p:nvSpPr>
        <p:spPr>
          <a:xfrm>
            <a:off x="642960" y="2571840"/>
            <a:ext cx="1857240" cy="64152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partamento Administración Gener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5 CuadroTexto"/>
          <p:cNvSpPr/>
          <p:nvPr/>
        </p:nvSpPr>
        <p:spPr>
          <a:xfrm>
            <a:off x="3643200" y="1357200"/>
            <a:ext cx="185760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GERENTE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6 CuadroTexto"/>
          <p:cNvSpPr/>
          <p:nvPr/>
        </p:nvSpPr>
        <p:spPr>
          <a:xfrm>
            <a:off x="2714760" y="2571840"/>
            <a:ext cx="1857240" cy="45900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partamento Compra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642960" y="350028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de Administració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8 CuadroTexto"/>
          <p:cNvSpPr/>
          <p:nvPr/>
        </p:nvSpPr>
        <p:spPr>
          <a:xfrm>
            <a:off x="4786200" y="3500280"/>
            <a:ext cx="185760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Almacé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10 CuadroTexto"/>
          <p:cNvSpPr/>
          <p:nvPr/>
        </p:nvSpPr>
        <p:spPr>
          <a:xfrm>
            <a:off x="6786720" y="350028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de Venta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11 CuadroTexto"/>
          <p:cNvSpPr/>
          <p:nvPr/>
        </p:nvSpPr>
        <p:spPr>
          <a:xfrm>
            <a:off x="4071960" y="4857840"/>
            <a:ext cx="1000080" cy="64152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pto Admon Almacé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12 CuadroTexto"/>
          <p:cNvSpPr/>
          <p:nvPr/>
        </p:nvSpPr>
        <p:spPr>
          <a:xfrm>
            <a:off x="5214960" y="4857840"/>
            <a:ext cx="857160" cy="45900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Jefe Logístic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13 CuadroTexto"/>
          <p:cNvSpPr/>
          <p:nvPr/>
        </p:nvSpPr>
        <p:spPr>
          <a:xfrm>
            <a:off x="214200" y="4643280"/>
            <a:ext cx="928800" cy="45900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Gestión Comercial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14 CuadroTexto"/>
          <p:cNvSpPr/>
          <p:nvPr/>
        </p:nvSpPr>
        <p:spPr>
          <a:xfrm>
            <a:off x="5929200" y="6072120"/>
            <a:ext cx="100008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Mecánico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15 CuadroTexto"/>
          <p:cNvSpPr/>
          <p:nvPr/>
        </p:nvSpPr>
        <p:spPr>
          <a:xfrm>
            <a:off x="4786200" y="2571840"/>
            <a:ext cx="185760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Almacé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16 CuadroTexto"/>
          <p:cNvSpPr/>
          <p:nvPr/>
        </p:nvSpPr>
        <p:spPr>
          <a:xfrm>
            <a:off x="6786720" y="257184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Departamento Venta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17 CuadroTexto"/>
          <p:cNvSpPr/>
          <p:nvPr/>
        </p:nvSpPr>
        <p:spPr>
          <a:xfrm>
            <a:off x="2500200" y="4643280"/>
            <a:ext cx="12146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ntabilidad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18 CuadroTexto"/>
          <p:cNvSpPr/>
          <p:nvPr/>
        </p:nvSpPr>
        <p:spPr>
          <a:xfrm>
            <a:off x="1285920" y="4643280"/>
            <a:ext cx="107136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entralita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19 CuadroTexto"/>
          <p:cNvSpPr/>
          <p:nvPr/>
        </p:nvSpPr>
        <p:spPr>
          <a:xfrm>
            <a:off x="5072040" y="5572080"/>
            <a:ext cx="107172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Operario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20 CuadroTexto"/>
          <p:cNvSpPr/>
          <p:nvPr/>
        </p:nvSpPr>
        <p:spPr>
          <a:xfrm>
            <a:off x="6286680" y="4857840"/>
            <a:ext cx="128556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Repartidor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22 CuadroTexto"/>
          <p:cNvSpPr/>
          <p:nvPr/>
        </p:nvSpPr>
        <p:spPr>
          <a:xfrm>
            <a:off x="6786720" y="4286160"/>
            <a:ext cx="1857240" cy="276480"/>
          </a:xfrm>
          <a:prstGeom prst="rect">
            <a:avLst/>
          </a:prstGeom>
          <a:solidFill>
            <a:srgbClr val="ec6b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Vendedores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24 Conector recto"/>
          <p:cNvSpPr/>
          <p:nvPr/>
        </p:nvSpPr>
        <p:spPr>
          <a:xfrm flipH="1">
            <a:off x="4572000" y="1635120"/>
            <a:ext cx="1440" cy="5796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33 Conector recto"/>
          <p:cNvSpPr/>
          <p:nvPr/>
        </p:nvSpPr>
        <p:spPr>
          <a:xfrm flipV="1">
            <a:off x="4572000" y="1923840"/>
            <a:ext cx="500040" cy="468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36 Conector recto"/>
          <p:cNvSpPr/>
          <p:nvPr/>
        </p:nvSpPr>
        <p:spPr>
          <a:xfrm>
            <a:off x="1571760" y="2214720"/>
            <a:ext cx="6143400" cy="14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40 Conector recto"/>
          <p:cNvSpPr/>
          <p:nvPr/>
        </p:nvSpPr>
        <p:spPr>
          <a:xfrm flipV="1">
            <a:off x="1569240" y="2214720"/>
            <a:ext cx="180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43 Conector recto"/>
          <p:cNvSpPr/>
          <p:nvPr/>
        </p:nvSpPr>
        <p:spPr>
          <a:xfrm flipV="1">
            <a:off x="7714440" y="2214720"/>
            <a:ext cx="180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48 Conector recto"/>
          <p:cNvSpPr/>
          <p:nvPr/>
        </p:nvSpPr>
        <p:spPr>
          <a:xfrm flipV="1">
            <a:off x="3641760" y="2214720"/>
            <a:ext cx="144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50 Conector recto"/>
          <p:cNvSpPr/>
          <p:nvPr/>
        </p:nvSpPr>
        <p:spPr>
          <a:xfrm flipV="1">
            <a:off x="5715000" y="2214720"/>
            <a:ext cx="1440" cy="357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52 Conector recto"/>
          <p:cNvSpPr/>
          <p:nvPr/>
        </p:nvSpPr>
        <p:spPr>
          <a:xfrm flipH="1">
            <a:off x="1569600" y="3219480"/>
            <a:ext cx="1800" cy="2808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54 Conector recto"/>
          <p:cNvSpPr/>
          <p:nvPr/>
        </p:nvSpPr>
        <p:spPr>
          <a:xfrm flipH="1">
            <a:off x="5715000" y="2849400"/>
            <a:ext cx="1440" cy="65088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56 Conector recto"/>
          <p:cNvSpPr/>
          <p:nvPr/>
        </p:nvSpPr>
        <p:spPr>
          <a:xfrm flipH="1">
            <a:off x="7714800" y="2847960"/>
            <a:ext cx="1800" cy="14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58 Conector recto"/>
          <p:cNvSpPr/>
          <p:nvPr/>
        </p:nvSpPr>
        <p:spPr>
          <a:xfrm flipH="1">
            <a:off x="7714800" y="2849400"/>
            <a:ext cx="1800" cy="65088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60 Conector recto"/>
          <p:cNvSpPr/>
          <p:nvPr/>
        </p:nvSpPr>
        <p:spPr>
          <a:xfrm flipH="1">
            <a:off x="1569600" y="3778200"/>
            <a:ext cx="1800" cy="3668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71 Conector recto"/>
          <p:cNvSpPr/>
          <p:nvPr/>
        </p:nvSpPr>
        <p:spPr>
          <a:xfrm flipH="1">
            <a:off x="5643720" y="3778200"/>
            <a:ext cx="1440" cy="107964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75 Conector recto"/>
          <p:cNvSpPr/>
          <p:nvPr/>
        </p:nvSpPr>
        <p:spPr>
          <a:xfrm>
            <a:off x="714240" y="4143240"/>
            <a:ext cx="2286000" cy="18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5" name="87 Conector angular"/>
          <p:cNvCxnSpPr/>
          <p:nvPr/>
        </p:nvCxnSpPr>
        <p:spPr>
          <a:xfrm>
            <a:off x="5643360" y="4428720"/>
            <a:ext cx="9291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db5a13"/>
            </a:solidFill>
            <a:miter/>
          </a:ln>
        </p:spPr>
      </p:cxnSp>
      <p:sp>
        <p:nvSpPr>
          <p:cNvPr id="436" name="89 Conector recto"/>
          <p:cNvSpPr/>
          <p:nvPr/>
        </p:nvSpPr>
        <p:spPr>
          <a:xfrm flipH="1">
            <a:off x="6571800" y="4430880"/>
            <a:ext cx="1800" cy="4284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95 Conector recto"/>
          <p:cNvSpPr/>
          <p:nvPr/>
        </p:nvSpPr>
        <p:spPr>
          <a:xfrm>
            <a:off x="6215040" y="4357800"/>
            <a:ext cx="0" cy="171612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38" name="103 Conector angular"/>
          <p:cNvCxnSpPr/>
          <p:nvPr/>
        </p:nvCxnSpPr>
        <p:spPr>
          <a:xfrm rot="5400000">
            <a:off x="5499000" y="5429880"/>
            <a:ext cx="286560" cy="2520"/>
          </a:xfrm>
          <a:prstGeom prst="bentConnector3">
            <a:avLst>
              <a:gd name="adj1" fmla="val 49937"/>
            </a:avLst>
          </a:prstGeom>
          <a:ln w="9360">
            <a:solidFill>
              <a:srgbClr val="db5a13"/>
            </a:solidFill>
            <a:miter/>
          </a:ln>
        </p:spPr>
      </p:cxnSp>
      <p:cxnSp>
        <p:nvCxnSpPr>
          <p:cNvPr id="439" name="105 Conector angular"/>
          <p:cNvCxnSpPr/>
          <p:nvPr/>
        </p:nvCxnSpPr>
        <p:spPr>
          <a:xfrm rot="10800000">
            <a:off x="4571280" y="4428360"/>
            <a:ext cx="10724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db5a13"/>
            </a:solidFill>
            <a:miter/>
          </a:ln>
        </p:spPr>
      </p:cxnSp>
      <p:cxnSp>
        <p:nvCxnSpPr>
          <p:cNvPr id="440" name="107 Conector angular"/>
          <p:cNvCxnSpPr>
            <a:endCxn id="410" idx="0"/>
          </p:cNvCxnSpPr>
          <p:nvPr/>
        </p:nvCxnSpPr>
        <p:spPr>
          <a:xfrm rot="5400000">
            <a:off x="4357080" y="4643640"/>
            <a:ext cx="429120" cy="3600"/>
          </a:xfrm>
          <a:prstGeom prst="bentConnector3">
            <a:avLst>
              <a:gd name="adj1" fmla="val 49958"/>
            </a:avLst>
          </a:prstGeom>
          <a:ln w="9360">
            <a:solidFill>
              <a:srgbClr val="db5a13"/>
            </a:solidFill>
            <a:miter/>
          </a:ln>
        </p:spPr>
      </p:cxnSp>
      <p:sp>
        <p:nvSpPr>
          <p:cNvPr id="441" name="109 Conector recto"/>
          <p:cNvSpPr/>
          <p:nvPr/>
        </p:nvSpPr>
        <p:spPr>
          <a:xfrm flipH="1">
            <a:off x="7714800" y="3778200"/>
            <a:ext cx="1800" cy="50976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42" name="118 Conector angular"/>
          <p:cNvCxnSpPr/>
          <p:nvPr/>
        </p:nvCxnSpPr>
        <p:spPr>
          <a:xfrm rot="5400000">
            <a:off x="1321920" y="4393800"/>
            <a:ext cx="498960" cy="1080"/>
          </a:xfrm>
          <a:prstGeom prst="bentConnector3">
            <a:avLst>
              <a:gd name="adj1" fmla="val 49963"/>
            </a:avLst>
          </a:prstGeom>
          <a:ln w="9360">
            <a:solidFill>
              <a:srgbClr val="db5a13"/>
            </a:solidFill>
            <a:miter/>
          </a:ln>
        </p:spPr>
      </p:cxnSp>
      <p:sp>
        <p:nvSpPr>
          <p:cNvPr id="443" name="127 Conector recto"/>
          <p:cNvSpPr/>
          <p:nvPr/>
        </p:nvSpPr>
        <p:spPr>
          <a:xfrm>
            <a:off x="3000240" y="4143240"/>
            <a:ext cx="142920" cy="180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130 Conector recto"/>
          <p:cNvSpPr/>
          <p:nvPr/>
        </p:nvSpPr>
        <p:spPr>
          <a:xfrm flipH="1">
            <a:off x="3142800" y="4143240"/>
            <a:ext cx="1800" cy="50976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132 Conector recto"/>
          <p:cNvSpPr/>
          <p:nvPr/>
        </p:nvSpPr>
        <p:spPr>
          <a:xfrm flipH="1">
            <a:off x="713880" y="4143240"/>
            <a:ext cx="1800" cy="509760"/>
          </a:xfrm>
          <a:prstGeom prst="line">
            <a:avLst/>
          </a:prstGeom>
          <a:ln w="9360">
            <a:solidFill>
              <a:srgbClr val="db5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133 CuadroTexto"/>
          <p:cNvSpPr/>
          <p:nvPr/>
        </p:nvSpPr>
        <p:spPr>
          <a:xfrm>
            <a:off x="7286760" y="6215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c6b24"/>
                </a:solidFill>
                <a:latin typeface="Lucida Sans Unicode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Nº de niveles: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pan de Contr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Gerente: 5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Administración:  3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Almacén: 4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Ventas: 1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Jefe de Logística: 1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3 Rectángulo" descr=""/>
          <p:cNvPicPr/>
          <p:nvPr/>
        </p:nvPicPr>
        <p:blipFill>
          <a:blip r:embed="rId1"/>
          <a:stretch/>
        </p:blipFill>
        <p:spPr>
          <a:xfrm>
            <a:off x="1036800" y="841320"/>
            <a:ext cx="4187520" cy="1255680"/>
          </a:xfrm>
          <a:prstGeom prst="rect">
            <a:avLst/>
          </a:prstGeom>
          <a:ln w="0">
            <a:noFill/>
          </a:ln>
        </p:spPr>
      </p:pic>
      <p:pic>
        <p:nvPicPr>
          <p:cNvPr id="374" name="2 Rectángulo" descr=""/>
          <p:cNvPicPr/>
          <p:nvPr/>
        </p:nvPicPr>
        <p:blipFill>
          <a:blip r:embed="rId2"/>
          <a:stretch/>
        </p:blipFill>
        <p:spPr>
          <a:xfrm>
            <a:off x="4151160" y="2535120"/>
            <a:ext cx="40593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287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Septiembre 1980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Se planta la base del grupo empresarial actual naciendo el negocio familiar, formado por Mª Isabel Trujillo y Luciano Pérez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81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Entra a formar parte del negocio un tercer socio, pasando a denominarse COMERCIAL PECA, con cuya denominación funcionó hasta marzo de </a:t>
            </a: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85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En abril de ese mismo año nace la empresa JAYQUESA, S.A. sobre la base del negocio existente. Su actividad era la venta de jamones y quesos principalmente, y muy tímidamente embutido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87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Marisa y Luciano se hacen con el 100% de la sociedad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88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JAYQUESA se transforma en una sociedad limitada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E:\Fotos\2005-03 (mar)\Scan0038.tif"/>
          <p:cNvPicPr/>
          <p:nvPr/>
        </p:nvPicPr>
        <p:blipFill>
          <a:blip r:embed="rId1"/>
          <a:stretch/>
        </p:blipFill>
        <p:spPr>
          <a:xfrm>
            <a:off x="3857760" y="1071720"/>
            <a:ext cx="4973400" cy="3552840"/>
          </a:xfrm>
          <a:prstGeom prst="rect">
            <a:avLst/>
          </a:prstGeom>
          <a:ln w="0">
            <a:noFill/>
          </a:ln>
        </p:spPr>
      </p:pic>
      <p:sp>
        <p:nvSpPr>
          <p:cNvPr id="378" name="2 Marcador de contenido"/>
          <p:cNvSpPr/>
          <p:nvPr/>
        </p:nvSpPr>
        <p:spPr>
          <a:xfrm>
            <a:off x="357120" y="1071720"/>
            <a:ext cx="35434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1987. 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Marisa y Luciano se hacen con el 100% de la sociedad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1988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JAYQUESA se transforma en una sociedad limitada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Octubre 1990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Se crea la sociedad PRODUCTOS CÁRNICOS IBÉRICOS, S.L., con el fin de además ser fabricantes de cárnicos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6 CuadroTexto"/>
          <p:cNvSpPr/>
          <p:nvPr/>
        </p:nvSpPr>
        <p:spPr>
          <a:xfrm>
            <a:off x="357120" y="4908600"/>
            <a:ext cx="86439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spcBef>
                <a:spcPts val="476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Abril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92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La fábrica comienza su actividad como saladero de jamones y embasado de productos cárnico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00040" y="500040"/>
            <a:ext cx="4286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Octubre 1990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Se crea la sociedad PRODUCTOS CÁRNICOS IBÉRICOS, S.L., con el fin de además ser fabricantes de cárnicos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Abril 1992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La fábrica comienza su actividad como saladero de jamones y embasado de productos cárnicos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95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 Debido al volumen del negocio, se realiza una ampliación de las instalaciones, pasando a compartir JAYQUESA, S.L. y PRODUCTOS CÁRNICOS IBÉRICOS S.L. dichas instalaciones, actuando la primera como distribuidora y la segunda como fabricante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Lucida Sans Unicode"/>
              </a:rPr>
              <a:t>1996</a:t>
            </a:r>
            <a:r>
              <a:rPr b="0" lang="es-ES" sz="1700" spc="-1" strike="noStrike">
                <a:solidFill>
                  <a:srgbClr val="000000"/>
                </a:solidFill>
                <a:latin typeface="Lucida Sans Unicode"/>
              </a:rPr>
              <a:t>. Se crea SUBBÉTICA DE QUESOS, S.L., con el objetivo de construir una fábrica de productos lácteos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Picture 2" descr="E:\Fotos\2005-03 (mar)\Scan0010.tif"/>
          <p:cNvPicPr/>
          <p:nvPr/>
        </p:nvPicPr>
        <p:blipFill>
          <a:blip r:embed="rId1"/>
          <a:stretch/>
        </p:blipFill>
        <p:spPr>
          <a:xfrm>
            <a:off x="5143680" y="1285920"/>
            <a:ext cx="36828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00040" y="571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96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Se crea SUBBÉTICA DE QUESOS, S.L., con el objetivo de construir una fábrica de productos lácteo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Agosto 1997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La sociedad adquiere una fábrica de embutidos y salazones de jamones en Cumbres Mayores, Huelva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1999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Se produce el cambio de denominación de la sociedad PRODUCTOS CÁRNICOS IBÉRICOS, S.L., que pasa a denominarse SIERRA Y VALLE JAMONES Y EMBUTIDOS, S.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Marzo 2000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. La SUBBÉTICA DE QUESOS, S.L. empieza su actividad de fabricación distribuyendo los productos como marca propia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ISIÓN: ofrecer sus productos y servicios a sus clientes con la mejor calidad posible, mediante seguimiento y control exhaustivo durante el proceso de producción y elaboración de los mismos, manteniendo el régimen familiar en la propie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4 Rectángulo" descr=""/>
          <p:cNvPicPr/>
          <p:nvPr/>
        </p:nvPicPr>
        <p:blipFill>
          <a:blip r:embed="rId2"/>
          <a:stretch/>
        </p:blipFill>
        <p:spPr>
          <a:xfrm>
            <a:off x="768240" y="1620720"/>
            <a:ext cx="6918480" cy="622440"/>
          </a:xfrm>
          <a:prstGeom prst="rect">
            <a:avLst/>
          </a:prstGeom>
          <a:ln w="0">
            <a:noFill/>
          </a:ln>
        </p:spPr>
      </p:pic>
      <p:pic>
        <p:nvPicPr>
          <p:cNvPr id="387" name="3 Rectángulo" descr=""/>
          <p:cNvPicPr/>
          <p:nvPr/>
        </p:nvPicPr>
        <p:blipFill>
          <a:blip r:embed="rId3"/>
          <a:stretch/>
        </p:blipFill>
        <p:spPr>
          <a:xfrm>
            <a:off x="768240" y="2548080"/>
            <a:ext cx="6918480" cy="622080"/>
          </a:xfrm>
          <a:prstGeom prst="rect">
            <a:avLst/>
          </a:prstGeom>
          <a:ln w="0">
            <a:noFill/>
          </a:ln>
        </p:spPr>
      </p:pic>
      <p:pic>
        <p:nvPicPr>
          <p:cNvPr id="388" name="5 Rectángulo" descr=""/>
          <p:cNvPicPr/>
          <p:nvPr/>
        </p:nvPicPr>
        <p:blipFill>
          <a:blip r:embed="rId4"/>
          <a:stretch/>
        </p:blipFill>
        <p:spPr>
          <a:xfrm>
            <a:off x="768240" y="3408480"/>
            <a:ext cx="35226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57160" y="1714320"/>
            <a:ext cx="43293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GE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PERAR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b5a1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58480" cy="1341360"/>
          </a:xfrm>
          <a:prstGeom prst="rect">
            <a:avLst/>
          </a:prstGeom>
          <a:ln w="0">
            <a:noFill/>
          </a:ln>
        </p:spPr>
      </p:pic>
      <p:sp>
        <p:nvSpPr>
          <p:cNvPr id="391" name="2 Marcador de contenido"/>
          <p:cNvSpPr/>
          <p:nvPr/>
        </p:nvSpPr>
        <p:spPr>
          <a:xfrm>
            <a:off x="2786040" y="2000160"/>
            <a:ext cx="56149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 algn="r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Lucida Sans Unicode"/>
              </a:rPr>
              <a:t>JEFE DE VENTA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 algn="r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Lucida Sans Unicode"/>
              </a:rPr>
              <a:t>JEFE DE ADMINISTRACIÓ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-382680">
              <a:spcBef>
                <a:spcPts val="751"/>
              </a:spcBef>
              <a:buClr>
                <a:srgbClr val="db5a1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58:25Z</dcterms:created>
  <dc:creator>XP SP3 ES FUL EL CHUCKY</dc:creator>
  <dc:description/>
  <dc:language>en-US</dc:language>
  <cp:lastModifiedBy>XP SP3 ES FUL EL CHUCKY</cp:lastModifiedBy>
  <dcterms:modified xsi:type="dcterms:W3CDTF">2008-08-02T16:22:38Z</dcterms:modified>
  <cp:revision>54</cp:revision>
  <dc:subject/>
  <dc:title>JAYQUESA, S.L.</dc:title>
</cp:coreProperties>
</file>